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363144"/>
        <c:axId val="56360045"/>
      </c:barChart>
      <c:catAx>
        <c:axId val="503631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60045"/>
        <c:crosses val="autoZero"/>
        <c:auto val="1"/>
        <c:lblAlgn val="ctr"/>
        <c:lblOffset val="100"/>
        <c:noMultiLvlLbl val="0"/>
      </c:catAx>
      <c:valAx>
        <c:axId val="563600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631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4AF3-3A93-40DC-A98F-5E226393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81AB-D9AF-428F-BE0D-8619BC75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59B8-9B32-4029-B933-B1806AD77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CE8C-CE7B-4B7C-8BAA-DBEAB8F4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ADC8-6E29-4158-8629-02CD980F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990E-DC4D-4756-BA6A-F2535C4E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C48F-BE96-482A-9476-7B5ABE10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14B6-247A-4406-921F-4BFB4063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CC30-CAAE-475D-851E-7008641E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EEA1-BB0D-48A1-9EE6-E76C05CB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9B1D-7981-4DAF-AF3E-FC6ECE3C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03C7-2E16-4C58-AF5A-2A49C7A2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85C04-9689-4888-9DB6-52587DA28A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