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83427"/>
        <c:axId val="8189055"/>
      </c:barChart>
      <c:catAx>
        <c:axId val="84183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9055"/>
        <c:crosses val="autoZero"/>
        <c:auto val="1"/>
        <c:lblAlgn val="ctr"/>
        <c:lblOffset val="100"/>
        <c:noMultiLvlLbl val="0"/>
      </c:catAx>
      <c:valAx>
        <c:axId val="8189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83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406-4587-4C04-9173-DA863111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245-3F5B-4F1F-9705-F38E6E5A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B80-B568-4EDB-BC4C-208B5E8D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9E6-992F-454D-B52B-B0E7D324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972-29A5-454A-92A2-A05109EF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039-FAF4-41FB-9C55-31B7B626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57B-1138-4517-A069-5073355A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1C8-BAFF-406A-BCE0-E70695AE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9AB-47E8-4342-9EAA-40606FC7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47E-FDD9-4CA1-8040-A9E4409A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D0D-28BC-4060-AB31-EC121394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F27-B475-41EF-9F50-8E811367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D7588-3DB1-4CC6-8C70-DA6BD852B0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