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54128"/>
        <c:axId val="88446853"/>
      </c:barChart>
      <c:catAx>
        <c:axId val="91054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6853"/>
        <c:crosses val="autoZero"/>
        <c:auto val="1"/>
        <c:lblAlgn val="ctr"/>
        <c:lblOffset val="100"/>
        <c:noMultiLvlLbl val="0"/>
      </c:catAx>
      <c:valAx>
        <c:axId val="88446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54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568-F4EC-4AFE-9F91-3A1684DE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D77-F97E-4668-8126-C488CAA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7CA-E6CD-436F-92FC-0526876D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642-172B-463B-8A74-F24FA6B7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020-87C7-4BA4-A4CE-F7F9447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EDE-9DE5-4C4A-8D05-8C5898E2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F05-39A1-45D0-839C-F46C0F2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BAA-E956-4B25-8235-061DC74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1DB-2562-48BC-9E9A-502A8AD8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F4D-9FB6-4976-8372-37D9AC1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DAD-509E-470A-8FB9-47F92CD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23B-A993-4D20-9DD0-BCC8CDEF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25D3-E1EB-4DC9-954B-938E45FA25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