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95745"/>
        <c:axId val="85265286"/>
      </c:barChart>
      <c:catAx>
        <c:axId val="30695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65286"/>
        <c:crosses val="autoZero"/>
        <c:auto val="1"/>
        <c:lblAlgn val="ctr"/>
        <c:lblOffset val="100"/>
        <c:noMultiLvlLbl val="0"/>
      </c:catAx>
      <c:valAx>
        <c:axId val="85265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95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169-C431-4F66-84BC-C8F7D0BE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C7C-E695-4BF1-9ECA-1FD2B343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DDE-BC0C-4A6C-A772-FD52C7D8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923-DB4E-4379-A570-8AA2B2A3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B68-7FA4-40A9-9D74-68C30B9E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048-A611-4B5F-9472-7ED9E546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D04-BCE6-4EF9-8C09-B5221CE8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A91-9E16-4FF1-A1F9-79C55511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F1D-67E1-4DA0-AB6C-51CC8C1D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8B7-0BA1-41A8-A8A4-145A287A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136-5FFB-4B36-9A37-E8843C8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A05-1ABE-4EC7-8CFA-0B8E62EF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DA62C-1DCE-4CD7-9588-740CF0994E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