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68707"/>
        <c:axId val="62248004"/>
      </c:barChart>
      <c:catAx>
        <c:axId val="13568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48004"/>
        <c:crosses val="autoZero"/>
        <c:auto val="1"/>
        <c:lblAlgn val="ctr"/>
        <c:lblOffset val="100"/>
        <c:noMultiLvlLbl val="0"/>
      </c:catAx>
      <c:valAx>
        <c:axId val="62248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8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B1F-BE93-4216-B6B2-A1347528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15B-0E45-45BB-B263-3DDC49C1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8E0-3FA0-425F-ADA2-5E2CF70A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C43-8B1B-40E2-8380-717415DF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505-FAFE-4F7A-8E1A-37227D99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C7F-696B-4807-82D4-54A367C3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0CD-03A2-4406-80A6-F9A17655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ABB-54E4-4A80-B175-50392F8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E74-E192-4CFE-88AE-B93AAB22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804-FC7D-420C-B0C6-C03E3CD9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704-488F-4F7E-8F54-688B2802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D86-5684-4D9B-8EC4-4ED2ECC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42AD5-EAD1-41F9-87F9-0E28A15681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