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37599"/>
        <c:axId val="81206845"/>
      </c:barChart>
      <c:catAx>
        <c:axId val="36237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6845"/>
        <c:crosses val="autoZero"/>
        <c:auto val="1"/>
        <c:lblAlgn val="ctr"/>
        <c:lblOffset val="100"/>
        <c:noMultiLvlLbl val="0"/>
      </c:catAx>
      <c:valAx>
        <c:axId val="81206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37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578-2E55-4847-B80A-1A0EDC23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53F-601D-47E3-B7E6-989FCCF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077-E4A6-472E-A18B-7EEA8A9A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F77-E4DA-4512-A9D8-0E88DCF7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38A-11A4-4D65-889E-4146281D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5B6-B752-4808-B96A-519CF2D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C96-6B57-484E-A32D-50B46DD0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03E-2C5C-4357-8A6C-0FE25814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6B0-A97D-4B7F-B06C-74AC8452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8A2-57CB-4A08-99D5-8A17950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78D-3DDF-4B8E-875F-C37BD76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33C-443F-4EB3-BDD3-98F9486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69D88-23D8-4CA6-90E9-B8221EB605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