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4127730"/>
        <c:axId val="38052942"/>
      </c:barChart>
      <c:catAx>
        <c:axId val="9412773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052942"/>
        <c:crosses val="autoZero"/>
        <c:auto val="1"/>
        <c:lblAlgn val="ctr"/>
        <c:lblOffset val="100"/>
        <c:noMultiLvlLbl val="0"/>
      </c:catAx>
      <c:valAx>
        <c:axId val="3805294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12773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8A425-1AF3-4D4D-955C-35EA48114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9D962-F8DB-4FCA-A4C1-66520A684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81EAC-2B92-4FA9-AD6C-231B35E93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C217B-03CC-4D26-987B-ADD18B6C6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3099C-4CA6-40C5-B3EC-BF989685A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15B33-E805-4AF6-A499-1C2AE2440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85F37-8756-4142-9AD0-D55F572CE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CAEE7-1FDA-4F23-9E86-965F71CA0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1E48A-1DF9-4388-94D5-22DE4A7F0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1C3DC-2379-44D9-BE64-CF9692D8C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94085-17A9-4E57-9883-9AB3D19DB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FF594-C8C1-487D-96CB-1026CE829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3CAC8C-9B2C-4A5C-B1B1-2C0F348123D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