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06018"/>
        <c:axId val="22788537"/>
      </c:barChart>
      <c:catAx>
        <c:axId val="50606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8537"/>
        <c:crosses val="autoZero"/>
        <c:auto val="1"/>
        <c:lblAlgn val="ctr"/>
        <c:lblOffset val="100"/>
        <c:noMultiLvlLbl val="0"/>
      </c:catAx>
      <c:valAx>
        <c:axId val="22788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6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B23-0A52-4D0C-BE4D-AFC82C4A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AF6-77F4-4E2D-8EE9-C6C91175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15-66C3-46A5-9C50-D8579B85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40D-673E-4932-80EB-9D24F155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D39-8C46-43B2-A945-D70127A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0DF-B96D-440F-AA22-9ED9CB5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C12-3B9B-443A-BBDB-91E2DA8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D28-ED3A-473D-9638-9409D61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3D8-E8B3-48A0-BD47-C559EF4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BBE-B15B-4A50-98BB-AE3E4E7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0EA-05F2-44A0-963C-C615866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633-5108-480D-BA03-1240584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DFBD6-A32B-42EC-A2B8-FA4ED205E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