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37183"/>
        <c:axId val="12999814"/>
      </c:barChart>
      <c:catAx>
        <c:axId val="96637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9814"/>
        <c:crosses val="autoZero"/>
        <c:auto val="1"/>
        <c:lblAlgn val="ctr"/>
        <c:lblOffset val="100"/>
        <c:noMultiLvlLbl val="0"/>
      </c:catAx>
      <c:valAx>
        <c:axId val="12999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37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499-7EF9-44EF-81A9-17C4D245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C3B-EE60-4DC4-89C6-B0F2E4AE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0F9-B518-48FE-BF2B-A128B10F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851-6445-4EF5-88D9-4F701A02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EB6-0EBC-40E3-AE08-009F1F1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E71-1D7B-4B53-B225-EF5D50E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A26-B297-4515-BB6B-9B26B15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4F3-34A0-4C80-A234-926A8F6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CB8-E70A-43F1-97E0-E4161284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7CB-C73B-4C24-B650-1A99381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1B8-DED9-4FA6-BC93-C331D52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C0B-B1D5-4D8F-81D2-5321157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2CA09-7D39-47D0-B66B-5C775DA38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