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33006"/>
        <c:axId val="67767607"/>
      </c:barChart>
      <c:catAx>
        <c:axId val="29233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67607"/>
        <c:crosses val="autoZero"/>
        <c:auto val="1"/>
        <c:lblAlgn val="ctr"/>
        <c:lblOffset val="100"/>
        <c:noMultiLvlLbl val="0"/>
      </c:catAx>
      <c:valAx>
        <c:axId val="67767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33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E20-57AE-438A-B0B1-628F5BF4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5E7-45FD-43DF-BB56-FD468A19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433-ED00-4242-BC76-35205EB0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40D-F043-4505-B54F-4B7B8591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727-77DA-4CE1-814C-0F7CFA52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2E4-5B4B-4615-AAAC-94522232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C74-6BBC-40E1-BEA8-A82DA8E7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C0A-203B-49B6-BD06-06464F8F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A21-8736-4D8B-BF4D-C5C22288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618-16AF-4BF5-A03C-B735E43B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A21-D3F0-467B-B688-E0834FFA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BB0-1550-4CE3-9E9E-4096E19B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C77C9-BD27-4795-9E4F-2DD4007262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