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57607"/>
        <c:axId val="74069381"/>
      </c:barChart>
      <c:catAx>
        <c:axId val="82657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69381"/>
        <c:crosses val="autoZero"/>
        <c:auto val="1"/>
        <c:lblAlgn val="ctr"/>
        <c:lblOffset val="100"/>
        <c:noMultiLvlLbl val="0"/>
      </c:catAx>
      <c:valAx>
        <c:axId val="74069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57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4AB-0978-4F0A-A9B1-82B63527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EBA-F069-4D28-A7C8-20FCE026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F7F-A1BF-4057-9E3C-526115CE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79C-07DC-41AB-BD6D-0258111D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985-C757-4627-9C34-5FC36F74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7AE-7390-48E8-9DF8-08438C9E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D9D-4C13-4693-9194-17CF84D6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4E5-681C-4E97-B7D5-382BF16C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0D0-9411-47B5-97EF-215DCE73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31E-053E-415C-AEEF-0F53B30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B59-A51A-4CE6-B129-60BF8F4C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E18-3C89-416E-AD35-2C7EC00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0ED61-A928-4E0C-B272-57995F25E5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