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06197"/>
        <c:axId val="54867224"/>
      </c:barChart>
      <c:catAx>
        <c:axId val="44406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67224"/>
        <c:crosses val="autoZero"/>
        <c:auto val="1"/>
        <c:lblAlgn val="ctr"/>
        <c:lblOffset val="100"/>
        <c:noMultiLvlLbl val="0"/>
      </c:catAx>
      <c:valAx>
        <c:axId val="54867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06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057-CB78-44A0-BD6E-404AC2FD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7DE9-2D2A-4D75-A3A6-4F9F47CF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C87-A502-41E7-A2D5-359F951E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2B1-1663-409A-B166-9E2EEE44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4F0-51B5-4DC7-A301-80F5C7AF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4FD-AB91-4558-B6F6-D4DE3493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3BC-A84E-4093-B935-DF0DDD50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A35-63CC-4C59-B816-FED99710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8FA-995E-4C8D-836B-0E781BC3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92A-C213-4F49-B03C-6D08F838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FE0-DEFE-4122-8C0D-44D3272D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6A3-237F-49F6-8209-05806D92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02F1B-D7D0-48E8-AA0C-851C3BB5A1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