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88606"/>
        <c:axId val="76486307"/>
      </c:barChart>
      <c:catAx>
        <c:axId val="60288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86307"/>
        <c:crosses val="autoZero"/>
        <c:auto val="1"/>
        <c:lblAlgn val="ctr"/>
        <c:lblOffset val="100"/>
        <c:noMultiLvlLbl val="0"/>
      </c:catAx>
      <c:valAx>
        <c:axId val="76486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88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A78F-EC48-418C-98B7-711F6C8C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867-B88B-489D-9317-C0B3B118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311-4504-4EF2-B1BF-7F7E9B75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A98-BB09-4B83-B882-3AD8F7D6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85A-EC46-4A11-8C90-63236108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266-8195-4C0C-B206-13876228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8E8-2560-4043-AF93-3CCEB0D4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BF1-89FB-49C0-A3A7-A557129A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A1F-54AC-4D88-80D2-16B9315B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BE72-A1A1-4DCA-8A8A-19D34B8A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6C7-0859-4B79-B864-2717F4B9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B39-A810-47D3-8EF4-0DFA8EFF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89A03-55DB-4ABC-8D48-A0BD50E268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