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75821"/>
        <c:axId val="44664320"/>
      </c:barChart>
      <c:catAx>
        <c:axId val="49175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64320"/>
        <c:crosses val="autoZero"/>
        <c:auto val="1"/>
        <c:lblAlgn val="ctr"/>
        <c:lblOffset val="100"/>
        <c:noMultiLvlLbl val="0"/>
      </c:catAx>
      <c:valAx>
        <c:axId val="44664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5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0D7-01F8-42A7-893C-2B2AE2AA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9F9-AE1E-43E9-85CF-EDC1B74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948-DFAF-4471-B34A-B4FB3E61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F17-3FD2-40F8-ADA9-EE1F4BEF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413-14BA-44EA-8F5E-1892982E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B81-60A2-4B8D-B9BF-8F0121DF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56A-6860-4587-B501-07ABD6AD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B0E-744A-457F-A528-3353F8B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09E-4657-44EF-BDA7-D6C45E7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859-440B-448E-BC38-2FC598A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964-C655-4F2F-A5CF-CA3AE11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7A3-E249-4799-AD73-EA54363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054A9-E408-4697-AD60-945FEC725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