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931086"/>
        <c:axId val="47254513"/>
      </c:barChart>
      <c:catAx>
        <c:axId val="259310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254513"/>
        <c:crosses val="autoZero"/>
        <c:auto val="1"/>
        <c:lblAlgn val="ctr"/>
        <c:lblOffset val="100"/>
        <c:noMultiLvlLbl val="0"/>
      </c:catAx>
      <c:valAx>
        <c:axId val="472545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9310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D827-2CF5-4315-B974-E53197CD5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A6A7-1082-40B8-AC55-574F3D505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135A-1900-4C0F-9CAA-9CB6B592E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B2AF-5DD9-44DC-97B2-38C8DF649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548E-2046-4C31-9499-98C9E1B79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A933-49FE-4DAA-925B-9E72152F9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D5D3-4C9E-499A-994F-20A60F394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B2F6-C0AE-4420-AC9C-1E784B0D1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F94A-1533-4C88-9DBD-AE6A8977A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067D-6E5E-46DB-A45F-A2017D8CF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38C0-94D1-4E2A-AF19-332E8A8B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C176-3C42-417A-99B7-92863E52A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435555-65EC-4DB4-9B53-A833F8B1AEB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