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47199"/>
        <c:axId val="97951955"/>
      </c:barChart>
      <c:catAx>
        <c:axId val="41047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51955"/>
        <c:crosses val="autoZero"/>
        <c:auto val="1"/>
        <c:lblAlgn val="ctr"/>
        <c:lblOffset val="100"/>
        <c:noMultiLvlLbl val="0"/>
      </c:catAx>
      <c:valAx>
        <c:axId val="97951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47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641-2397-4038-B507-7A845FAA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F52-63A7-4573-AF98-D9263191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556-0D58-4EE0-8DCA-C938F01D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0A6-C7F7-4998-863C-59E4E69C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AD8-4E7D-49F7-92C4-7F3ECC41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A24-5AED-44DF-AFD7-A77F141C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98C-6226-41DC-B83C-0AC163D7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C05-F4D6-461C-A8CB-51D603E3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B73-1ED9-42C2-94A9-ABF0CA78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182-80B5-4E37-87BF-6BF56257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DAD-8931-40B1-9A46-18B36929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95B-BFF0-4265-80AC-CF7F0D16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A16D7-A622-498F-AF45-86F4863763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