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54354"/>
        <c:axId val="20513273"/>
      </c:barChart>
      <c:catAx>
        <c:axId val="75354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3273"/>
        <c:crosses val="autoZero"/>
        <c:auto val="1"/>
        <c:lblAlgn val="ctr"/>
        <c:lblOffset val="100"/>
        <c:noMultiLvlLbl val="0"/>
      </c:catAx>
      <c:valAx>
        <c:axId val="20513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4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076-DD92-4E3E-A9D8-1FA5A1E9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FDE-BBA9-4CD8-B699-4DF437F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9E7-48F7-4572-8B6B-F874FCE9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455-5D98-42CE-AED2-A7A487F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800-2E40-4073-A3F8-4DC21336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3FD-FC1D-4F7A-A7FC-F7105D0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EF6-309A-4BF9-B7CC-596C5577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991-ED76-4094-BF40-E30BA07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81-644A-493A-934E-36056088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9B6-485B-4067-8EEC-5EF3EA5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0B8-2C45-4A5D-895B-4A239D7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1A9-3E46-483B-8ACD-D3EA078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0A9A4-5C4D-4303-B837-9A06153A3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