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14049"/>
        <c:axId val="26207073"/>
      </c:barChart>
      <c:catAx>
        <c:axId val="56214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07073"/>
        <c:crosses val="autoZero"/>
        <c:auto val="1"/>
        <c:lblAlgn val="ctr"/>
        <c:lblOffset val="100"/>
        <c:noMultiLvlLbl val="0"/>
      </c:catAx>
      <c:valAx>
        <c:axId val="26207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14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317-2A66-4B30-A9D8-17DCE133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A73-C812-4446-A1C0-4A409E31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15E-023F-4EE3-9D43-52A9FE9E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271-462F-4951-B0C9-B18074D3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677-97FE-4C62-A7BE-AC68C37F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0C2-041A-4B8B-B99F-16C857AB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D1F-E592-4120-8FD1-C64DF7A6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C2F-DE67-4A20-8C68-F8503BE9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A22-39CB-434C-B61D-F5CEE565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1BF-D8D4-41C7-93D9-AFCB809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CA3-D86A-4C5B-8AB0-001B6D8A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E67-175C-4177-AAFA-0FB3CEE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1F7BA-9E4E-448F-80EF-8767F9E29A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