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691659"/>
        <c:axId val="50497813"/>
      </c:barChart>
      <c:catAx>
        <c:axId val="576916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97813"/>
        <c:crosses val="autoZero"/>
        <c:auto val="1"/>
        <c:lblAlgn val="ctr"/>
        <c:lblOffset val="100"/>
        <c:noMultiLvlLbl val="0"/>
      </c:catAx>
      <c:valAx>
        <c:axId val="504978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916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E884-1169-4761-B582-52AA4988A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1454-49AC-4FCE-A32C-3E1C95B1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9CF1-76E3-45AF-AD4D-9255F905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569A-FA5C-4834-A88C-F34CD319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1253-7C85-4824-ABD3-3E07FFB6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B492-0BD4-43D0-A568-DD6BF6A6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EFA0-BF4A-4295-90A5-2C6B812F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EEDF-A34A-4A82-9224-AC3C179D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F6AE-348E-4CFD-8E5B-7BC1DFC8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425D-4B87-4EA7-827B-9A6DBB6C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7ADD-9007-4982-95FE-D4FCBCD1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D7B8-018C-477B-9663-A209AE66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634EA-84CD-42E1-B150-C426D25153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