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94548"/>
        <c:axId val="56753016"/>
      </c:barChart>
      <c:catAx>
        <c:axId val="18494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53016"/>
        <c:crosses val="autoZero"/>
        <c:auto val="1"/>
        <c:lblAlgn val="ctr"/>
        <c:lblOffset val="100"/>
        <c:noMultiLvlLbl val="0"/>
      </c:catAx>
      <c:valAx>
        <c:axId val="56753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94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CA2-76B6-4960-81D8-084942D3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A34-8ED7-405F-BBB7-CB0AD700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878-EC5F-4690-8704-5CBF86C7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509-2BAB-487D-99F2-90712EB1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463-2DE1-4FBB-AE6A-716863BC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79A-DAFC-4F5E-B3DA-3B7D5B44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D8D-00BD-40B9-B95E-0AFB5C3E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6868-142F-43EA-ABFA-BDF6338F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1B2-B3F6-4895-BC67-6A69D782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3BF-3B79-493A-87CC-FFA78CD1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231-68CE-4B5C-B7CA-8CC3DF8C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4A7-6257-4224-B237-39361797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7A811-D055-46B2-97FF-DFBD7BD529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