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97169"/>
        <c:axId val="94607245"/>
      </c:barChart>
      <c:catAx>
        <c:axId val="77197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07245"/>
        <c:crosses val="autoZero"/>
        <c:auto val="1"/>
        <c:lblAlgn val="ctr"/>
        <c:lblOffset val="100"/>
        <c:noMultiLvlLbl val="0"/>
      </c:catAx>
      <c:valAx>
        <c:axId val="94607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97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A67-4DDC-4F4B-B762-AC9040D7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7F6-D022-4EB6-B95A-1F5AE404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17C-C1FA-48AB-A251-A830E0B7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939-5A12-482C-8D4A-DC0CDFD8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5FB-D05A-47B1-A0A1-BE0B12EB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FF7-777D-4CC0-A27A-E24600C4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702-609D-497F-A80C-A1A542EB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112-03EA-40D3-9132-4E680A1C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CF1-4217-4A95-B365-CF528A3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B47-8B69-4816-BD07-7D8521B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7CE-EBF9-4850-8EA5-B0E2D2F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03F-2D89-4B02-BB56-752769A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1B3EB-B690-4125-AD98-24E5D4CADA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