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92263"/>
        <c:axId val="3074777"/>
      </c:barChart>
      <c:catAx>
        <c:axId val="84892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4777"/>
        <c:crosses val="autoZero"/>
        <c:auto val="1"/>
        <c:lblAlgn val="ctr"/>
        <c:lblOffset val="100"/>
        <c:noMultiLvlLbl val="0"/>
      </c:catAx>
      <c:valAx>
        <c:axId val="3074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92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5FB-B037-4FC8-8DD3-BB852A88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D94-77C5-4EAF-8594-3798ED13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021-D4C0-4AEC-AAF9-0C5538E7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400-2EDB-4012-9977-6EF94197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74D-0FAE-4FF7-8680-DC9DB853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FE0-8473-4F60-A5AE-9A0B2C94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D18-7983-4BEA-9055-5B2E5F52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C0E-C18A-400F-95D2-0ABD16C2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158-C447-41FA-9314-3C1C35B7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970-D88C-450C-9A7B-AB1C1FEA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F74-45DC-4E65-A95B-8A696DB6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0B6-FD53-4D49-AB35-4C3E42BE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3496D-4170-46F7-9D86-22C0286AA1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