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73986"/>
        <c:axId val="73434677"/>
      </c:barChart>
      <c:catAx>
        <c:axId val="85873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4677"/>
        <c:crosses val="autoZero"/>
        <c:auto val="1"/>
        <c:lblAlgn val="ctr"/>
        <c:lblOffset val="100"/>
        <c:noMultiLvlLbl val="0"/>
      </c:catAx>
      <c:valAx>
        <c:axId val="73434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73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FFB-0D05-4B5F-8F41-6262B456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73A-CB82-4CA2-AD34-AE6727B7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81B-91D8-454F-A54F-B73B2712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E48-7A13-46D5-98D1-0444C967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2C1-1126-4EDD-9FE8-CF0CBEF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6DB-9C2B-4819-84A8-13C5892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480-4363-4E02-842A-E090639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ECF-23EE-43E5-BF94-A98028D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15D-065D-4868-BB52-D05C375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0D6-1F6A-4CB5-AEA7-2501884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F4F-41BD-431D-BB45-92740B9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F14-CAB1-436D-9BAC-2C458F5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CE479-6993-40B7-86CA-750A79F909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