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0373"/>
        <c:axId val="89760173"/>
      </c:barChart>
      <c:catAx>
        <c:axId val="499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60173"/>
        <c:crosses val="autoZero"/>
        <c:auto val="1"/>
        <c:lblAlgn val="ctr"/>
        <c:lblOffset val="100"/>
        <c:noMultiLvlLbl val="0"/>
      </c:catAx>
      <c:valAx>
        <c:axId val="89760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86B-AA40-4655-9AA8-6172FCA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75C-28A6-4CF3-A8BF-8B3D9272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1D4-8940-4007-8D8B-671E17A4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3AF-16EE-463F-9425-8A93A7E7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C30-1D01-40D9-ACCC-B35563F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809-E1FD-46F3-A9A3-E938FB3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368-0E4D-4533-AC28-F60417ED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4FB-03C7-4F7E-A13C-55BC222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1E6-2918-49E6-9002-712FAD35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7A8-33ED-49ED-88C6-F5460EE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9AB-56EC-4F61-8774-C2D4913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552-CA50-4F29-B4BA-C4056E4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FE6E1-74C0-4BFC-8EF4-83007149C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