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49911"/>
        <c:axId val="32089240"/>
      </c:barChart>
      <c:catAx>
        <c:axId val="98149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89240"/>
        <c:crosses val="autoZero"/>
        <c:auto val="1"/>
        <c:lblAlgn val="ctr"/>
        <c:lblOffset val="100"/>
        <c:noMultiLvlLbl val="0"/>
      </c:catAx>
      <c:valAx>
        <c:axId val="32089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9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24D-B9C4-466C-8A64-D596764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A27-B911-44B0-8FAB-53DF332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D40-9A09-4AFC-B0CA-4A4980F2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57E-C806-461D-920C-C4B85F6D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72A-B51A-4348-A1F2-5F832A9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BF5-B85D-4E96-938D-C22C83D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4C9-F3AC-41E9-9DE8-3379D73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AC7-0CBD-4737-91C1-6DCB968E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4A0-4D1C-4405-8D2B-CC06587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E3A-FCF1-43ED-B07C-1DF0630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DE7-6EED-41CE-9CC1-B857BC6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50D-C614-4AB5-9057-CB38419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AC32E-EF3D-4959-99B6-62858A0E2B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