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47322"/>
        <c:axId val="20187474"/>
      </c:barChart>
      <c:catAx>
        <c:axId val="56247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87474"/>
        <c:crosses val="autoZero"/>
        <c:auto val="1"/>
        <c:lblAlgn val="ctr"/>
        <c:lblOffset val="100"/>
        <c:noMultiLvlLbl val="0"/>
      </c:catAx>
      <c:valAx>
        <c:axId val="20187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47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C1B-41FC-42D4-BEDB-0C184016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82C-20B6-4756-A6F6-631A873F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CE3-0572-439E-B080-71546C05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6A4-B748-41C3-803B-B740736C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336-B744-4BD3-B910-C321BA25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4E0-5C9D-42F1-A202-12D3ACB4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58BF-D545-4428-BEBF-D3034A55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424-6A3B-4161-951C-BEE10F97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7A6-021B-402F-9794-AF090D31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38C-AE5C-4EBB-AC72-20B9836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75C-C832-48A0-B2B3-B8373A7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752-4438-4DB8-A011-E1454DB6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20163-C36D-4F05-970A-618666D95C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