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14695"/>
        <c:axId val="44374912"/>
      </c:barChart>
      <c:catAx>
        <c:axId val="30114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74912"/>
        <c:crosses val="autoZero"/>
        <c:auto val="1"/>
        <c:lblAlgn val="ctr"/>
        <c:lblOffset val="100"/>
        <c:noMultiLvlLbl val="0"/>
      </c:catAx>
      <c:valAx>
        <c:axId val="44374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14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370-EA0E-4EC4-96B8-3FBFE9E9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240-4D69-4671-820B-B1EC64B8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066-A88E-42D9-B033-6F500924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633-DC33-4BA1-B885-F3262208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E8E-9137-4E02-9514-730DD563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F6A-7506-49C9-B8F9-E97985F4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663-76B3-498F-AFE7-F4451FFE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B4D-D25A-44BA-9F6D-63560716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2D3-84B5-4CD4-9B90-AFAED5AC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564-3DFA-4771-BEE1-E9CF65BC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14A-0A94-4DA4-93FF-9199266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7B3-6B6F-4D62-9B33-A7C73A81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4148B-2C5A-4344-99B6-D4C324874A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