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89240"/>
        <c:axId val="15396612"/>
      </c:barChart>
      <c:catAx>
        <c:axId val="97089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96612"/>
        <c:crosses val="autoZero"/>
        <c:auto val="1"/>
        <c:lblAlgn val="ctr"/>
        <c:lblOffset val="100"/>
        <c:noMultiLvlLbl val="0"/>
      </c:catAx>
      <c:valAx>
        <c:axId val="153966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89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53D-2D84-41BD-B57E-780868CA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5EE-81AC-4D95-B3DA-49F5C6F6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BFC-03D2-431B-A299-C189622E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1E4-7806-4C54-9026-BC48BEAC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1D0-08B9-4CAF-9754-D61C83C3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4627-7488-4C02-A96F-430F18E8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8128-B72C-482F-A157-9BD8739E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A17-DFEF-41BB-8364-A065EA8D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108-9AB8-49F2-88E1-17195580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617C-CE43-456C-9AA5-89978C74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B0A-FFFC-41F9-BD9F-36CEE885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687-68AF-4E8A-8D0B-92F27208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C1157-8A43-41BE-8A8B-96D0ECDBA9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