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60434"/>
        <c:axId val="90787494"/>
      </c:barChart>
      <c:catAx>
        <c:axId val="72560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87494"/>
        <c:crosses val="autoZero"/>
        <c:auto val="1"/>
        <c:lblAlgn val="ctr"/>
        <c:lblOffset val="100"/>
        <c:noMultiLvlLbl val="0"/>
      </c:catAx>
      <c:valAx>
        <c:axId val="90787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60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99A-5E81-4D82-8ECC-89FB5CC9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97B-A7C5-4107-91EA-B76BEB98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B8F-8B33-4E4B-9365-83DB883E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A1C-6530-4415-BE62-D3FF46D9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833-7F8E-4921-81D2-3317F651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008-C83C-462C-8583-95D4649E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B33-BD5F-482B-8AC0-32F7DAC3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326-E904-4F31-A63E-CA5C3260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AF8-C3AD-4500-B4B6-EE6D735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BBA-60A3-4452-8126-02980397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E7D-D29C-4AA8-84DF-9C49AEB4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854-EEB9-4A47-9400-59DBA986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E64CA-3AB2-4159-9E39-F080A2237C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