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619349"/>
        <c:axId val="4373738"/>
      </c:barChart>
      <c:catAx>
        <c:axId val="326193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73738"/>
        <c:crosses val="autoZero"/>
        <c:auto val="1"/>
        <c:lblAlgn val="ctr"/>
        <c:lblOffset val="100"/>
        <c:noMultiLvlLbl val="0"/>
      </c:catAx>
      <c:valAx>
        <c:axId val="437373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193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46F2-B399-4838-A532-64513CDFC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719-1522-449C-BF4D-BBBFD0C78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EBDE-4673-43B2-AD74-C32683F15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9E9B-3CCD-4354-8DE6-1259C536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ACE3-2552-4C6D-9117-85258D21C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20C47-BB1B-462C-8020-D10D918D5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C2AAC-BFB0-4A64-B4E7-22275551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D71A-6BCA-4371-B629-40A000651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EA7E-102E-45FF-B08C-AA297CA30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28C2-A387-4DAD-BE3D-764F0EE6B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3909-2CB0-4BE3-A217-B5ADB65E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701D-68C5-4A6E-8B12-41FFA10E2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CBEB3-DA14-4D77-87B2-365686EBDC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