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692338"/>
        <c:axId val="38005506"/>
      </c:barChart>
      <c:catAx>
        <c:axId val="28692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05506"/>
        <c:crosses val="autoZero"/>
        <c:auto val="1"/>
        <c:lblAlgn val="ctr"/>
        <c:lblOffset val="100"/>
        <c:noMultiLvlLbl val="0"/>
      </c:catAx>
      <c:valAx>
        <c:axId val="380055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92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6201-EA6C-4DB4-81F5-5133983E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6B8-37A4-49C0-A4E2-9EAADC9A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1726-2F5B-4BB2-924F-723E5317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50F-CED4-439E-B306-CB9D13B9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65A-D088-4282-89B2-F35417B5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445B-B147-4A7F-B89B-DB64736D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6855-AA80-4D5B-9D42-D54BD35D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2100-C692-475E-9F7A-04305188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8343-31DA-4135-8D28-DD649606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E1E8-4E51-490A-88EA-DA332E31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F0A-35F3-48BB-BE69-89E394D8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1A17-5F4A-4B13-9CB0-02AB33F6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0A176-B421-4070-B384-25483C7B94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