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91176"/>
        <c:axId val="6742809"/>
      </c:barChart>
      <c:catAx>
        <c:axId val="95911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2809"/>
        <c:crosses val="autoZero"/>
        <c:auto val="1"/>
        <c:lblAlgn val="ctr"/>
        <c:lblOffset val="100"/>
        <c:noMultiLvlLbl val="0"/>
      </c:catAx>
      <c:valAx>
        <c:axId val="67428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11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C13B-F5F0-4A3F-9346-082587C22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8C02-13C2-4932-A7F8-590557EF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2404-25B6-4D9D-800F-223B81E3B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0D27-E89E-445B-BD94-19E6969F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B9E2-AEEE-49FA-B3C0-F12BDA4F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A3E2-D845-403B-B686-2317FD7F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1413-955A-4DE5-8B5C-AB4764BD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3ABC-F44A-4492-971A-14501993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F92B-7B37-4191-89F1-6B8C980F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D0E0-309E-4ED1-8201-01F59C86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7F98-960E-413A-9F7D-7C4A0533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B177-A972-4ED5-A82F-56E81F7A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927F7-560F-4083-8183-87223FE8DB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