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120066"/>
        <c:axId val="56247055"/>
      </c:barChart>
      <c:catAx>
        <c:axId val="631200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247055"/>
        <c:crosses val="autoZero"/>
        <c:auto val="1"/>
        <c:lblAlgn val="ctr"/>
        <c:lblOffset val="100"/>
        <c:noMultiLvlLbl val="0"/>
      </c:catAx>
      <c:valAx>
        <c:axId val="562470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200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6467-B499-47E8-BF1A-D5BFF4FC2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6504-700B-4093-B722-6EC93018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ED5B-31FA-477B-B84E-8F84CC469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10FE-F4FF-431A-A390-B430A80BF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B26C-B089-4608-814C-6AD2CD0B2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E920-6802-4150-A982-9940ADB4D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E4AD-D076-40C2-8AB6-65D28D99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A86E-1014-4277-A45D-62B478A53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F027-6FEE-44A5-B89F-644B4ACE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38C5-7387-4F05-B724-CCC04751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052A-922A-4B52-B436-9D34570F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EC40-3D4C-4FBB-8DB2-7F7547B7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14E3A-ABEE-4C82-965E-568AE92721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