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65945"/>
        <c:axId val="7280162"/>
      </c:barChart>
      <c:catAx>
        <c:axId val="71365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0162"/>
        <c:crosses val="autoZero"/>
        <c:auto val="1"/>
        <c:lblAlgn val="ctr"/>
        <c:lblOffset val="100"/>
        <c:noMultiLvlLbl val="0"/>
      </c:catAx>
      <c:valAx>
        <c:axId val="7280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65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234-BEE3-42B1-BC22-FA9B3DDE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3E8-6999-4AEA-BD52-3834B79D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44E-CFD6-46F8-930E-712544E8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BAA-CC00-419D-AA3A-7EB3BAF7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AFB-5062-4F19-B4A3-8BA805B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215-F45D-48FE-BFA4-A229644A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9B2-24F4-444A-AE96-EAC53C11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B66-9965-419C-8819-91D1BBC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76E-C6A7-4E3D-AB66-29CE86EE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4B1-7638-4966-B54C-25215548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44D-301E-4957-A76A-5DDFE909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8D4-B2A0-411E-913D-97E82C34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BDF14-AA2B-439D-9CC1-01663BB711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