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71783"/>
        <c:axId val="47828189"/>
      </c:barChart>
      <c:catAx>
        <c:axId val="33671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28189"/>
        <c:crosses val="autoZero"/>
        <c:auto val="1"/>
        <c:lblAlgn val="ctr"/>
        <c:lblOffset val="100"/>
        <c:noMultiLvlLbl val="0"/>
      </c:catAx>
      <c:valAx>
        <c:axId val="47828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71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939-11AF-49CF-B003-AD760CCE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BE8-E8BB-4EB3-8BCC-50CE220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C8A-0D1C-4919-8D0E-315C55BE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4B4-E959-4E2A-855C-9C333753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1C8-FE1B-437C-ACFB-9F8E199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823-FD52-4436-9568-BE162C5A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124-3629-4BA2-8C64-156D640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135-F93E-4826-B9A6-70D5C13A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1BC-DC46-4CB3-B340-90E934EA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9ED-9EB7-4B57-A1B4-0F42AFD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1BA-5E29-4B2A-83EA-CEDCDDF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BDA-9AF3-4DA2-A910-9CD84DE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33D81-58EE-4D71-8FF1-0DA695F5C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