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68299"/>
        <c:axId val="1055256"/>
      </c:barChart>
      <c:catAx>
        <c:axId val="84968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5256"/>
        <c:crosses val="autoZero"/>
        <c:auto val="1"/>
        <c:lblAlgn val="ctr"/>
        <c:lblOffset val="100"/>
        <c:noMultiLvlLbl val="0"/>
      </c:catAx>
      <c:valAx>
        <c:axId val="1055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68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B18-18AF-4ED2-890B-D3A3DFD2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ADF-1EBE-4DE4-A64C-ECFD0976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6F9-5B41-46B9-97A3-92B4D38C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75B-6D71-4679-A9CA-52225C52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35D-14F7-41DB-A3FB-2320C133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4506-41AF-4D86-A7B8-82131FBB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F55-8A49-4F0F-A16D-E267919C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665-94B8-4998-A1CF-EB4BCFC3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D70-402A-486D-9845-3AB179D0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550-96BD-4E8B-AF5C-06230FE3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BB01-650E-4BC5-AD37-094DCF49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4E7-9BD7-4F0B-8720-45DB1DE2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70414-3DA9-4513-90D1-86250EB37C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