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18650"/>
        <c:axId val="94943303"/>
      </c:barChart>
      <c:catAx>
        <c:axId val="53918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43303"/>
        <c:crosses val="autoZero"/>
        <c:auto val="1"/>
        <c:lblAlgn val="ctr"/>
        <c:lblOffset val="100"/>
        <c:noMultiLvlLbl val="0"/>
      </c:catAx>
      <c:valAx>
        <c:axId val="94943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8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AEA-2FAE-4DD8-A4FA-B1A99118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EE04-E09A-4F4F-85FA-87F0215B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DCA-4A3F-4DC8-BAE4-33664552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A84B-861C-4BEE-B035-F04A2459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778-4804-4085-A9A1-384C5AF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C34-FAF6-4114-AC74-362EDF56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484-14CA-40A4-B52E-CD2B147C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661-5784-40B5-9F96-5C4893C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A11-68C8-4F1A-8F6C-7DCEB4D8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1BD-ECAC-42AA-A590-EADA6EB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173-31DB-4F8C-B659-6825DD2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717-562A-4EBB-9808-61731C8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45B27-A721-4264-83BC-1A464D011F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