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39338"/>
        <c:axId val="78169528"/>
      </c:barChart>
      <c:catAx>
        <c:axId val="93439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69528"/>
        <c:crosses val="autoZero"/>
        <c:auto val="1"/>
        <c:lblAlgn val="ctr"/>
        <c:lblOffset val="100"/>
        <c:noMultiLvlLbl val="0"/>
      </c:catAx>
      <c:valAx>
        <c:axId val="78169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39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806-98EB-4CEE-BEB0-CF6B28C9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B49-97EF-4210-93E5-08790F0E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FC7-39BC-4C96-8EB9-305D81F1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85E-ECCE-4518-9E43-4A908DDC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ED7-6C26-4852-9898-EA8C5B7A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A24-B25A-4EBD-B52B-3665CEC4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C5C-769E-46A5-9A0F-EC270323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DA7-75F8-4790-B9D8-93D5DF5F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651-E6AF-4EF4-909B-56470AF2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C46-6A2C-4D0A-9683-21E7823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E5C-298D-4377-AFBA-D9FEDC1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A96-4AC3-4D40-95FA-D966DE54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FC8BE-92D7-4D0C-8666-F8946CE7C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