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01581"/>
        <c:axId val="62474988"/>
      </c:barChart>
      <c:catAx>
        <c:axId val="22501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4988"/>
        <c:crosses val="autoZero"/>
        <c:auto val="1"/>
        <c:lblAlgn val="ctr"/>
        <c:lblOffset val="100"/>
        <c:noMultiLvlLbl val="0"/>
      </c:catAx>
      <c:valAx>
        <c:axId val="62474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01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516-C943-46F4-AB81-17BEF8DD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57C-453A-4D6B-8E85-EDD97C3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82C-B508-4902-AEBE-1B48EC88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691-34B7-4301-9FCE-8CDDCED0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7FC-08DF-43AE-B0E3-FCCFD10E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82E-1E8A-4683-94D1-FF43CDC2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94B-8D03-44C8-A29F-E736A5C9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756-6010-4D69-B174-5E3A0840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E24-06B2-463E-A3FA-2F6E09DC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988-652C-44E0-A0E4-E3E3DAF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1F7-3CEB-4015-A608-01C1CD0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C76-DA79-46EA-B976-0A5EF06D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8335B-F358-43AA-B6EE-D622E3971F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