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55557"/>
        <c:axId val="15360535"/>
      </c:barChart>
      <c:catAx>
        <c:axId val="94255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60535"/>
        <c:crosses val="autoZero"/>
        <c:auto val="1"/>
        <c:lblAlgn val="ctr"/>
        <c:lblOffset val="100"/>
        <c:noMultiLvlLbl val="0"/>
      </c:catAx>
      <c:valAx>
        <c:axId val="15360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55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E5A-C9BB-46CB-9632-2AD4D7DD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A3C-55A9-4E72-B17F-17074D8A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628-07B3-46DC-9850-31ACA984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B9B-3633-41AC-ADFD-47D5F136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E81-6A2E-44D8-8B8E-36B59290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8EE-6CC6-4BDC-802D-B911B453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CDC-0DB0-43BE-841F-23DBCB1A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2F3-E58E-45CA-9EE8-1C497BE9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32F-029D-4C61-8E2C-5F6316F9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FD5-E65E-438F-91B1-BFB6C5F6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8C5-A5EC-4CAF-8B10-19755112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1F1-540B-4539-9F79-9329FE05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59843-C03F-4C0E-B77E-9DABF5D8FE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