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3369"/>
        <c:axId val="43679916"/>
      </c:barChart>
      <c:catAx>
        <c:axId val="2613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79916"/>
        <c:crosses val="autoZero"/>
        <c:auto val="1"/>
        <c:lblAlgn val="ctr"/>
        <c:lblOffset val="100"/>
        <c:noMultiLvlLbl val="0"/>
      </c:catAx>
      <c:valAx>
        <c:axId val="43679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3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9FE-8259-4A5A-807B-C7769D99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FB8-5434-4849-B4F1-BCEB78E2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9BC-23A2-40C9-928E-66578A0B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A59-5E4D-4DFE-A193-4CC9B452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38C-3F22-4F1D-8DE4-09C5AF5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015-4329-4E18-AD83-D997D1F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604-C48B-47B1-8CA2-52F2D103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289-CA64-4934-B1CC-89E54B16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882-672F-4CA0-9D9E-CC9DCDE3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F36-DE5F-4635-8C63-FFD86A5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D6E-893F-4F74-83C3-156C32D8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674-DF77-4F52-A672-28920C1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8E370-E448-411E-A3C8-62505A0699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