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63580"/>
        <c:axId val="96975966"/>
      </c:barChart>
      <c:catAx>
        <c:axId val="68763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75966"/>
        <c:crosses val="autoZero"/>
        <c:auto val="1"/>
        <c:lblAlgn val="ctr"/>
        <c:lblOffset val="100"/>
        <c:noMultiLvlLbl val="0"/>
      </c:catAx>
      <c:valAx>
        <c:axId val="96975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3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136-FE6F-4F10-B49D-4D34BDC3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B11-B824-45E2-A7BA-920AF041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80F-D877-4134-9315-148F2D51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B77-063C-47AD-B798-CF75B8E1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4C9-F6D4-4AF7-89E9-A4E7FE82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407-FF71-4C38-9E51-F6D17D7F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D76-3E50-47F5-BBAC-1C673953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5FD-AEA9-4549-AC07-4EF99B13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73B-892D-44BA-8173-0D42EE9B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9D8-3E8D-4FA6-B46D-E4034CBF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264-B97B-40BF-B5A6-D0849E37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7C3-D5F8-421C-8472-D222CD7D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0B400-F4CD-4CCC-86DD-504EDFEC9E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