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1647"/>
        <c:axId val="79664979"/>
      </c:barChart>
      <c:catAx>
        <c:axId val="55351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64979"/>
        <c:crosses val="autoZero"/>
        <c:auto val="1"/>
        <c:lblAlgn val="ctr"/>
        <c:lblOffset val="100"/>
        <c:noMultiLvlLbl val="0"/>
      </c:catAx>
      <c:valAx>
        <c:axId val="79664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1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DB3-EF6D-44BE-B2C8-26D44558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D4F-1845-41DE-BBC2-36CDD5D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FF9-F43A-4378-BFEF-FCFAD5B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5B0-4DE7-4F12-819F-C36D69F6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EEA-96D5-4A06-BD9F-D8732227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2B0-D7D5-4358-B2DE-2BD71D3D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06B-D3FB-4EC5-996E-57E2E8A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B00-7DC8-4E1D-9847-35F2E24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80C-6282-4242-B6F5-99AAE1F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D03-1936-402D-8A19-721E99E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4A3-FC14-42F2-B987-197BBEB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F71-CF2A-4D6E-A405-A26CBFE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4B8F-4C9C-4F98-8B57-03E728119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