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79680"/>
        <c:axId val="20685904"/>
      </c:barChart>
      <c:catAx>
        <c:axId val="62979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5904"/>
        <c:crosses val="autoZero"/>
        <c:auto val="1"/>
        <c:lblAlgn val="ctr"/>
        <c:lblOffset val="100"/>
        <c:noMultiLvlLbl val="0"/>
      </c:catAx>
      <c:valAx>
        <c:axId val="20685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79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7F1-9147-4231-9D8A-60857208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1CA-AC09-40FB-953E-F56532D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AE4-FC2F-452B-BE06-D473F2FE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F66-3F46-4313-8436-ABAD4D13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C56-5E81-4E8F-A206-CF3F34BA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E46-5368-4CD0-8B28-11E6B949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26E-4048-4551-A0C2-CB664265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E5F-B6F5-4D60-A6E9-5A75D7DE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676-28A5-4490-928D-58C10627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D93-558F-4916-864C-9FEB939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002-9771-404B-AA49-9F9FDEF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9C3-DB0C-48F3-9411-F99591B9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D259F-F6DC-4C16-81DF-AF65244917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