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13193"/>
        <c:axId val="65924124"/>
      </c:barChart>
      <c:catAx>
        <c:axId val="98613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4124"/>
        <c:crosses val="autoZero"/>
        <c:auto val="1"/>
        <c:lblAlgn val="ctr"/>
        <c:lblOffset val="100"/>
        <c:noMultiLvlLbl val="0"/>
      </c:catAx>
      <c:valAx>
        <c:axId val="65924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3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967-C480-4E72-B8DE-B7B1AC1C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068-4780-423E-B7BA-4B4AF17E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705-384C-497C-B303-6772F590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E84-CB91-46A4-8D04-71E4F7AC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C77-37D8-4DF4-85D3-4E9BDF5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85F-E454-4F85-A06E-1D7C1E1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E78-15EC-4545-8056-21EF6F1A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0E3-646E-4A40-A648-AA125FD0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8DD-C77B-459D-A617-6C73210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81B-6AFA-4C77-8041-13F9A6A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04A-59D0-455B-9DD2-FB3A223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E9E-B80F-4BB6-8F43-940CFEE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9F1A2-42CA-4C2D-872A-9AFEBB282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