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286827"/>
        <c:axId val="70337359"/>
      </c:barChart>
      <c:catAx>
        <c:axId val="252868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37359"/>
        <c:crosses val="autoZero"/>
        <c:auto val="1"/>
        <c:lblAlgn val="ctr"/>
        <c:lblOffset val="100"/>
        <c:noMultiLvlLbl val="0"/>
      </c:catAx>
      <c:valAx>
        <c:axId val="703373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868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36B0-FD60-4196-80D9-7E69CBAC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3809-BD34-4B6A-9B52-7502D533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9BF1-6ED9-485A-9A23-9DC8018D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80D6-BE24-4A33-A4D0-5D0A840F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2201-3499-4AE8-91DC-2E80CF92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4AD7-5297-40E4-A425-F242FEE0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736A-9445-4094-9960-F910021A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CE71-ACE8-4B46-AF2E-C79FA9A8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F897-46F2-4EF8-B87D-8348A53C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CA0A-A269-45C5-8190-87C58989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3EE9-FF9A-4D9E-8EDA-4902C07F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EF7-0B38-410F-980B-68AE27E7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14AAC-D268-49B4-8707-1127CE0062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