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99667"/>
        <c:axId val="25373966"/>
      </c:barChart>
      <c:catAx>
        <c:axId val="18999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73966"/>
        <c:crosses val="autoZero"/>
        <c:auto val="1"/>
        <c:lblAlgn val="ctr"/>
        <c:lblOffset val="100"/>
        <c:noMultiLvlLbl val="0"/>
      </c:catAx>
      <c:valAx>
        <c:axId val="25373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99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E8A-95AB-4F0B-9667-96FF4CC8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9CC-C7DA-4A80-AA09-C12519E0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D4A-3962-439F-B9C3-D55AAC22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D76-63B2-4661-BC0A-1CBE2A75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4DF-3AD2-4C78-8979-33D0A6D2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016-2D5B-4740-9F5D-24CA4F96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CC2-D8B5-4A8B-8359-78D4A31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B02-40EC-4620-84F6-DE024646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256-D868-4F95-8660-B9AF807C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2D2-3695-48C6-87D3-E1EA625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DA1-EBBB-4BCD-9FB0-8453454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B4D-6820-41D7-B4ED-C410FBB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2D933-11B5-48B1-B867-F5C6D05E28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