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97284"/>
        <c:axId val="93600013"/>
      </c:barChart>
      <c:catAx>
        <c:axId val="34197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00013"/>
        <c:crosses val="autoZero"/>
        <c:auto val="1"/>
        <c:lblAlgn val="ctr"/>
        <c:lblOffset val="100"/>
        <c:noMultiLvlLbl val="0"/>
      </c:catAx>
      <c:valAx>
        <c:axId val="93600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97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F58-A814-4D29-BFEB-B924AB6E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1F-6FF4-4D1E-8ED4-C8B106E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CDC-27F2-48AE-BB8E-BBE0F076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196-912B-47C5-8A92-8F636C29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30B-9BFE-497A-8D99-BCACCDC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5BF-7F7B-41B6-9EC6-6880AF9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DFB-8A43-43E3-8590-04811C4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E83-63DA-4066-8554-B794F29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53E-D5B2-4A3B-A58D-3B33D2D5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E53-4C14-428C-BA41-E95F38D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45A-26A7-46B0-8603-2E92049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33A-EB63-4A7F-9809-D86F55D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F62C8-8821-4385-BC4D-F8E683FCA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