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46006"/>
        <c:axId val="12373647"/>
      </c:barChart>
      <c:catAx>
        <c:axId val="46946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73647"/>
        <c:crosses val="autoZero"/>
        <c:auto val="1"/>
        <c:lblAlgn val="ctr"/>
        <c:lblOffset val="100"/>
        <c:noMultiLvlLbl val="0"/>
      </c:catAx>
      <c:valAx>
        <c:axId val="12373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46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DA2-FBB8-405F-AC10-099FB6B7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C63-FD1F-4D34-858C-EB896AD1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38A-F93B-4884-85F5-E98CF95C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6E9-687B-4CC0-8F0E-0FCCAEB1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1D1-3971-4E6C-B2E1-5361B339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D9D-76CF-47BD-B5EE-B85D3E59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BD8-FACD-494F-9332-89F4F228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BCC-A19E-4C16-849D-25BAD4D7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18C-B3C0-4D09-80CF-F45D83FC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512-5069-473C-B313-FBB893A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D0F-2A09-4859-A231-6937A422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DE2-D851-45D8-B2CA-A263E44D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27C37-E5E3-44EB-983A-32A54F4E97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