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02587"/>
        <c:axId val="80296836"/>
      </c:barChart>
      <c:catAx>
        <c:axId val="81802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96836"/>
        <c:crosses val="autoZero"/>
        <c:auto val="1"/>
        <c:lblAlgn val="ctr"/>
        <c:lblOffset val="100"/>
        <c:noMultiLvlLbl val="0"/>
      </c:catAx>
      <c:valAx>
        <c:axId val="80296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02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662-332C-4059-B223-0AC3E4CD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75A-EE67-47EF-918C-0CCE4053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032-06F6-4ED7-B6FF-553EF7CD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42E-CA96-4D7D-A8AF-514974BE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7FD-61DD-4845-8CC9-0A64B284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54F-69DA-41B0-B4FB-C7114883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208-C39E-4266-823D-CD59C7DC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94C-E1B3-4A92-B05D-2D8A7981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A28-7E3B-49CA-8B5F-A7FA17AC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8F7-ED33-4A10-889C-C1A3FCF7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EE0-1405-4390-8387-301A92A7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E9B-9297-40A9-BE1F-4A60D691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2EF20-DFC1-4253-96CA-C49E6B4A0F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